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D03-93CE-43FC-AEFC-2B29C391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670-4AAC-44AD-9B8A-E9D9743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DD6-FA5E-4169-BCC7-5DE3CCD8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C43-98A2-470F-8C05-1D6EF35C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3F6-EDB9-4121-8537-841DB49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03F-13F0-43C9-A2B7-08B280A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295-A45F-43EA-9F3A-CD77AB3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E32-41ED-4EB5-88A3-57AFD43F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163-9DEE-4797-B438-817B176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1C6-6103-48BE-85F9-FAD2314E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ABA-E2A1-4883-A7D2-FB4F86F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F1D-E801-429D-8396-C2E5A2E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D8DE-6A29-4B2E-9C3F-B7286FFD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052640"/>
            <a:ext cx="748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耐水性の弱いラベルに印刷した場合は、保護フィルムを表面に貼り付けてコーティングしてください。私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ＴｏｏのシルバーラベルＭ（ﾏｯﾄ）（中耐水性）に印刷して、それに保護フィルムを貼り付け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保護フィルムを貼っても雨で濡れると、ラベルと保護フィルムの間に水が入り込んで、ステッカー周囲の色がボケたり、溶け出したりする場合があります。例えば、ステッカーを切り出すとき、青色のウィンドウ枠にあわせて切り出すと、青色が溶け出して、車のボディに色が付く場合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以下、保護フィルムを使用する場合の注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れを防ぐため、ステッカーイメージの背景に薄いベージュの四角領域を作ってあります。この領域の色は、貼り付ける自動車のボディーカラーに合わせてください（私の車はホワイトパールなのでこの色にしました）。そしてステッカーを切り出す時は、ウィンドウ枠から２～３ミリの余白を作って切り出してください。結局この淵の色が車のボディに滲み出すことになるので、それは覚悟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04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注意事項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692280"/>
            <a:ext cx="6624720" cy="4608360"/>
          </a:xfrm>
          <a:prstGeom prst="rect">
            <a:avLst/>
          </a:prstGeom>
          <a:solidFill>
            <a:srgbClr val="ffff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50960" y="907920"/>
            <a:ext cx="1984320" cy="417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984320" cy="417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56400" y="907920"/>
            <a:ext cx="1984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549360"/>
            <a:ext cx="7848360" cy="5472000"/>
          </a:xfrm>
          <a:prstGeom prst="rect">
            <a:avLst/>
          </a:prstGeom>
          <a:solidFill>
            <a:srgbClr val="ffff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2359080" cy="496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97280" y="765000"/>
            <a:ext cx="235908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3640" y="765000"/>
            <a:ext cx="235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41:02Z</dcterms:created>
  <dc:creator/>
  <dc:description/>
  <dc:language>en-US</dc:language>
  <cp:lastModifiedBy>Tetsuo Nakamura</cp:lastModifiedBy>
  <dcterms:modified xsi:type="dcterms:W3CDTF">2007-11-25T11:17:55Z</dcterms:modified>
  <cp:revision>22</cp:revision>
  <dc:subject/>
  <dc:title>スライド 1</dc:title>
</cp:coreProperties>
</file>